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414-02A1-4660-AC2A-3339EBEB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870-BF86-46BE-A1C1-003083F6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61C-3174-443D-B7DD-70C2A902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BE-FD7D-4C6E-84D7-0EFF539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508-D53B-44E9-A633-7B50EC6B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68C-2061-46EC-953E-AD65E7AC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DA5-9F7F-4AC0-99FB-B526C5F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98A-EEC5-46F5-962F-6F68548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E0A-2790-4E49-B597-53FA0504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C23-6400-4E01-B549-9C9ECE1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45E-4A79-4B62-9BE1-A6FCBCF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E6E-0488-480C-BDB7-020C5CE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E41-9452-498E-9EC2-01D675C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B7F-1DB2-4424-9FED-B8398CF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2F9-AC97-4FEC-945B-AB162F9F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preet Vi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guesta perritos. ¿Qué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favorito animal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. ¿Como estan?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ww, yo amo pajaritos pequeñ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amo pajaritos pequeñ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erros son mucho trabaj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01-19T19:02:22Z</dcterms:modified>
  <cp:revision>96</cp:revision>
  <dc:subject/>
  <dc:title>Profile</dc:title>
</cp:coreProperties>
</file>